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31D-3A3B-48D4-936E-22495773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E35-CC3C-4863-AA01-2E942C13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755-6E09-4868-A87B-9A3658C3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B99-EC04-4807-A40A-226D0E5E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7389-90BC-4636-A8E9-875D1975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99E6-AFD4-4FD2-A3EF-E55896D8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93D0-ED5E-459B-B92A-BE00D796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EB2A-C7C2-44ED-9434-30669E73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8E79-951B-4EA0-93E8-65F471CA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9FC8-F3AB-41BC-8F83-F2C5821A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329D-DAB3-4778-8290-468A1109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FFC-17D9-497E-A220-33A9C2AE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387-567B-48BC-AA6D-155B74F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B0DA-B5A5-45C9-9310-D5EE266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2E3A-8A6B-44A5-8554-0556C93D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D32F-EFB8-4A29-9899-52F367BC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DF55-6093-4F5E-BBEC-68C80AA8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1E09-E842-46D2-991C-CB92B440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D1F3-7F29-4648-B212-B7EDAE19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948B-3A33-4175-86DD-327EF855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FCC6-49A5-4552-8F98-D22B46B0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766A-DEB4-45E4-A11C-C867C260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76C-8C88-4134-BAA4-FFA1E9F4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E855-82D7-4C4D-9E99-D68D4066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75F1-99B9-4862-91F2-B954FFF9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F3982-4EC5-4696-B289-E53422EE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AADF-0824-48EF-825A-DB9C8808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0AD1-7ACF-4FFF-9C0E-99FA33FE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D712-8346-4D04-B829-386740F2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A146E-CC63-475F-8481-9CE9D88C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E33C-BFD9-4BB1-9D8B-3C7211E1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45BF-26A0-496E-8A38-C612CF0B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F853B-5F54-43DD-AB14-156BB0C0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193-8677-43D4-82CC-18C29963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E75C-2797-416C-9B39-5B7A8B30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6D6A-3416-4D2F-AEF6-371DABDF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6085-ADB3-484A-AAFC-5FE3657F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9132-2905-4A7E-AF8D-055DDE3F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7F1DA-08C0-4AE9-A2BB-C819C50A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589A-71F9-4E3E-924F-B044633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234F6-F429-485A-8EFC-AE8D44D5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CF71-C1DD-4E72-ABD1-EDA0F541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C0DC-D81E-4F3F-888F-061BACC0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568-1A56-41C1-8D45-4F7461CD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15C-757C-420F-ACDA-1D75CE29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91D-77A0-4D58-B7FD-7D4B39A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B97-8020-4C9E-9957-3824AA4B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C6E-D2D5-4A40-A400-CDA929C8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76440" cy="6864480"/>
            <a:chOff x="0" y="0"/>
            <a:chExt cx="676440" cy="6864480"/>
          </a:xfrm>
        </p:grpSpPr>
        <p:pic>
          <p:nvPicPr>
            <p:cNvPr id="1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76440" cy="68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120" y="6120"/>
              <a:ext cx="663840" cy="68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" name="图片 7" descr=""/>
          <p:cNvPicPr/>
          <p:nvPr/>
        </p:nvPicPr>
        <p:blipFill>
          <a:blip r:embed="rId3"/>
          <a:stretch/>
        </p:blipFill>
        <p:spPr>
          <a:xfrm>
            <a:off x="8132760" y="0"/>
            <a:ext cx="101772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BA0D-E594-404C-8552-7FF22EE22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676440" cy="6864480"/>
            <a:chOff x="0" y="0"/>
            <a:chExt cx="676440" cy="6864480"/>
          </a:xfrm>
        </p:grpSpPr>
        <p:pic>
          <p:nvPicPr>
            <p:cNvPr id="46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76440" cy="68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120" y="6120"/>
              <a:ext cx="663840" cy="68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" name="图片 7" descr=""/>
          <p:cNvPicPr/>
          <p:nvPr/>
        </p:nvPicPr>
        <p:blipFill>
          <a:blip r:embed="rId3"/>
          <a:stretch/>
        </p:blipFill>
        <p:spPr>
          <a:xfrm>
            <a:off x="8132760" y="0"/>
            <a:ext cx="1017720" cy="1432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850-618C-4C28-8EB1-A61213873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9773-4DD2-45CD-BF69-5367833C48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2960" cy="1138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342360" y="398520"/>
            <a:ext cx="450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课题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 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分子和原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5796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6284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564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343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920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516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359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5776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056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292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656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17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180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308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8196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0088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720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976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146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61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100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34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6896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7528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877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21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</a:rPr>
              <a:t>Click to edit the outline text format</a:t>
            </a:r>
            <a:endParaRPr b="1" lang="en-US" sz="3200" spc="-1" strike="noStrike">
              <a:solidFill>
                <a:srgbClr val="0000cc"/>
              </a:solidFill>
              <a:latin typeface="华文中宋"/>
            </a:endParaRPr>
          </a:p>
          <a:p>
            <a:pPr lvl="1" marL="660960" indent="-254160">
              <a:lnSpc>
                <a:spcPct val="12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</a:rPr>
              <a:t>Second Outline Level</a:t>
            </a:r>
            <a:endParaRPr b="1" lang="en-US" sz="3200" spc="-1" strike="noStrike">
              <a:solidFill>
                <a:srgbClr val="0000cc"/>
              </a:solidFill>
              <a:latin typeface="华文中宋"/>
            </a:endParaRPr>
          </a:p>
          <a:p>
            <a:pPr lvl="2" marL="1017000" indent="-203400">
              <a:lnSpc>
                <a:spcPct val="12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</a:rPr>
              <a:t>Third Outline Level</a:t>
            </a:r>
            <a:endParaRPr b="1" lang="en-US" sz="3200" spc="-1" strike="noStrike">
              <a:solidFill>
                <a:srgbClr val="0000cc"/>
              </a:solidFill>
              <a:latin typeface="华文中宋"/>
            </a:endParaRPr>
          </a:p>
          <a:p>
            <a:pPr lvl="3" marL="1424160" indent="-203400">
              <a:lnSpc>
                <a:spcPct val="12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</a:rPr>
              <a:t>Fourth Outline Level</a:t>
            </a:r>
            <a:endParaRPr b="1" lang="en-US" sz="3200" spc="-1" strike="noStrike">
              <a:solidFill>
                <a:srgbClr val="0000cc"/>
              </a:solidFill>
              <a:latin typeface="华文中宋"/>
            </a:endParaRPr>
          </a:p>
          <a:p>
            <a:pPr lvl="4" marL="1830960" indent="-203400">
              <a:lnSpc>
                <a:spcPct val="12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</a:rPr>
              <a:t>Fifth Outline Level</a:t>
            </a:r>
            <a:endParaRPr b="1" lang="en-US" sz="3200" spc="-1" strike="noStrike">
              <a:solidFill>
                <a:srgbClr val="0000cc"/>
              </a:solidFill>
              <a:latin typeface="华文中宋"/>
            </a:endParaRPr>
          </a:p>
          <a:p>
            <a:pPr lvl="5" marL="1830960" indent="-203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</a:rPr>
              <a:t>Sixth Outline Level</a:t>
            </a:r>
            <a:endParaRPr b="1" lang="en-US" sz="3200" spc="-1" strike="noStrike">
              <a:solidFill>
                <a:srgbClr val="0000cc"/>
              </a:solidFill>
              <a:latin typeface="华文中宋"/>
            </a:endParaRPr>
          </a:p>
          <a:p>
            <a:pPr lvl="6" marL="1830960" indent="-203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</a:rPr>
              <a:t>Seventh Outline Level</a:t>
            </a:r>
            <a:endParaRPr b="1" lang="en-US" sz="3200" spc="-1" strike="noStrike">
              <a:solidFill>
                <a:srgbClr val="0000cc"/>
              </a:solidFill>
              <a:latin typeface="华文中宋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华文中宋"/>
                <a:ea typeface="华文中宋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华文中宋"/>
                <a:ea typeface="华文中宋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华文中宋"/>
                <a:ea typeface="华文中宋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5232-2084-4415-A9AB-7A9674A53996}" type="slidenum">
              <a:rPr b="1" lang="en-US" sz="10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华文中宋"/>
              </a:rPr>
              <a:t>Click to edit the title text format</a:t>
            </a:r>
            <a:endParaRPr b="1" lang="en-US" sz="3800" spc="-1" strike="noStrike">
              <a:solidFill>
                <a:srgbClr val="993300"/>
              </a:solidFill>
              <a:latin typeface="华文中宋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552600" cy="552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839080" y="53352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912960" cy="113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342360" y="398520"/>
            <a:ext cx="450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课题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 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分子和原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5796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6284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564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343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920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16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359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5776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056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292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656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17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180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08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8196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0088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720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976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146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861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9100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0344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6896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75280" y="549360"/>
            <a:ext cx="12204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21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0" y="54936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8229600" y="152280"/>
            <a:ext cx="552600" cy="552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839080" y="533520"/>
            <a:ext cx="122400" cy="12204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&#27700;&#30005;&#35299;.wm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7" descr="化学仪器-2"/>
          <p:cNvPicPr/>
          <p:nvPr/>
        </p:nvPicPr>
        <p:blipFill>
          <a:blip r:embed="rId1"/>
          <a:stretch/>
        </p:blipFill>
        <p:spPr>
          <a:xfrm>
            <a:off x="3348000" y="3429000"/>
            <a:ext cx="3743280" cy="2519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158920" y="571680"/>
            <a:ext cx="572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课题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水的组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612720" y="-25560"/>
            <a:ext cx="8353440" cy="280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三）实验结论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１、产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正极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-------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氧气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负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-----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氢气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1835280" y="2709720"/>
            <a:ext cx="44640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: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1: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4360" y="3502080"/>
            <a:ext cx="8532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验证分子、原子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化学变化中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分 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可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重新组合成新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611280" y="544500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水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Verdana"/>
              </a:rPr>
              <a:t>  通电   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氢气＋ 氧气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476360" y="6165720"/>
            <a:ext cx="7066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6000" spc="-1" strike="noStrike" baseline="-25000">
                <a:solidFill>
                  <a:srgbClr val="000000"/>
                </a:solidFill>
                <a:latin typeface="Arial"/>
              </a:rPr>
              <a:t>O                H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6000" spc="-1" strike="noStrike" baseline="-25000">
                <a:solidFill>
                  <a:srgbClr val="000000"/>
                </a:solidFill>
                <a:latin typeface="Arial"/>
              </a:rPr>
              <a:t>             O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27920" y="393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Arial"/>
              </a:rPr>
              <a:t>分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076280" y="4797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Arial"/>
              </a:rPr>
              <a:t>分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84720" y="393372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Arial"/>
              </a:rPr>
              <a:t>原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4"/>
          <p:cNvSpPr/>
          <p:nvPr/>
        </p:nvSpPr>
        <p:spPr>
          <a:xfrm>
            <a:off x="684360" y="1486080"/>
            <a:ext cx="845964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水是由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_______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组成的；水分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由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构成的。一个水分子由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构成的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3924360" y="1270080"/>
            <a:ext cx="262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氢元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900000" y="2060640"/>
            <a:ext cx="24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Times New Roman"/>
                <a:ea typeface="隶书"/>
              </a:rPr>
              <a:t>氧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元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1476360" y="3213000"/>
            <a:ext cx="262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氢原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4500720" y="3357720"/>
            <a:ext cx="262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氧原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6229440" y="4581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两个氢原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835280" y="573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一个氧原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8720" y="274680"/>
            <a:ext cx="740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宋体"/>
                <a:ea typeface="宋体"/>
              </a:rPr>
              <a:t>3</a:t>
            </a:r>
            <a:r>
              <a:rPr b="0" lang="zh-CN" sz="4400" spc="-1" strike="noStrike">
                <a:solidFill>
                  <a:srgbClr val="4bc5b9"/>
                </a:solidFill>
                <a:latin typeface="宋体"/>
                <a:ea typeface="宋体"/>
              </a:rPr>
              <a:t>：水的组成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1332000" y="112536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电解水的前后，参与反应的元素种类有无变化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 rot="19003800">
            <a:off x="721440" y="40392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9be02"/>
                </a:solidFill>
                <a:latin typeface="Arial"/>
              </a:rPr>
              <a:t>想一想</a:t>
            </a:r>
            <a:r>
              <a:rPr b="1" lang="zh-CN" sz="4800" spc="-1" strike="noStrike">
                <a:solidFill>
                  <a:srgbClr val="d9be02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1403280" y="285264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5050"/>
                </a:solidFill>
                <a:uFillTx/>
                <a:latin typeface="Arial"/>
                <a:ea typeface="华文楷体"/>
              </a:rPr>
              <a:t>反应前后元素不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539640" y="3716280"/>
            <a:ext cx="83534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华文楷体"/>
              </a:rPr>
              <a:t>说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：水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(H2O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是由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元素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元素组成的纯净物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8317080" y="3429000"/>
            <a:ext cx="71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华文楷体"/>
              </a:rPr>
              <a:t>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724360" y="335772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华文楷体"/>
              </a:rPr>
              <a:t>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0" y="549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铁</a:t>
            </a: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)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        2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二氧化碳</a:t>
            </a: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)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　　</a:t>
            </a:r>
            <a:endParaRPr b="0" lang="en-US" sz="4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0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四氧化三铁</a:t>
            </a: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)   4</a:t>
            </a:r>
            <a:r>
              <a:rPr b="0" lang="zh-CN" sz="40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氮气（     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1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高锰酸钾</a:t>
            </a: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) </a:t>
            </a:r>
            <a:endParaRPr b="0" lang="en-US" sz="4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1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氯化钾（          </a:t>
            </a: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1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二氧化锰（             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spcBef>
                <a:spcPts val="1100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 氧气（     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镁（         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）                 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红磷（     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）  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硫磺</a:t>
            </a: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) 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       12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二氧化硫（         </a:t>
            </a:r>
            <a:r>
              <a:rPr b="1" lang="zh-CN" sz="4400" spc="-1" strike="noStrike">
                <a:solidFill>
                  <a:srgbClr val="000000"/>
                </a:solidFill>
                <a:latin typeface="Goudy Old Style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" name=""/>
          <p:cNvSpPr/>
          <p:nvPr/>
        </p:nvSpPr>
        <p:spPr>
          <a:xfrm>
            <a:off x="1982520" y="549360"/>
            <a:ext cx="89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050"/>
                </a:solidFill>
                <a:latin typeface="Arial"/>
              </a:rPr>
              <a:t>F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6520" y="620640"/>
            <a:ext cx="132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Arial"/>
              </a:rPr>
              <a:t>CO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067280" y="1309680"/>
            <a:ext cx="144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780000" y="1268280"/>
            <a:ext cx="22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n-US" sz="3600" spc="-1" strike="noStrike">
                <a:solidFill>
                  <a:srgbClr val="ff5050"/>
                </a:solidFill>
                <a:latin typeface="Goudy Old Style"/>
              </a:rPr>
              <a:t>Fe</a:t>
            </a:r>
            <a:r>
              <a:rPr b="1" lang="en-US" sz="3600" spc="-1" strike="noStrike" baseline="-25000">
                <a:solidFill>
                  <a:srgbClr val="ff5050"/>
                </a:solidFill>
                <a:latin typeface="Goudy Old Style"/>
              </a:rPr>
              <a:t>3</a:t>
            </a:r>
            <a:r>
              <a:rPr b="1" lang="en-US" sz="3600" spc="-1" strike="noStrike">
                <a:solidFill>
                  <a:srgbClr val="ff5050"/>
                </a:solidFill>
                <a:latin typeface="Goudy Old Style"/>
              </a:rPr>
              <a:t>O</a:t>
            </a:r>
            <a:r>
              <a:rPr b="1" lang="en-US" sz="3600" spc="-1" strike="noStrike" baseline="-25000">
                <a:solidFill>
                  <a:srgbClr val="ff5050"/>
                </a:solidFill>
                <a:latin typeface="Goudy Old Style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956720" y="1268280"/>
            <a:ext cx="874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N</a:t>
            </a:r>
            <a:r>
              <a:rPr b="1" lang="en-US" sz="4000" spc="-1" strike="noStrike" baseline="-25000">
                <a:solidFill>
                  <a:srgbClr val="4bc5b9"/>
                </a:solidFill>
                <a:latin typeface="Footlight MT Light"/>
                <a:ea typeface="华文新魏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08360" y="1989000"/>
            <a:ext cx="2232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KMnO</a:t>
            </a:r>
            <a:r>
              <a:rPr b="1" lang="en-US" sz="4400" spc="-1" strike="noStrike" baseline="-25000">
                <a:solidFill>
                  <a:srgbClr val="4bc5b9"/>
                </a:solidFill>
                <a:latin typeface="Footlight MT Light"/>
                <a:ea typeface="华文新魏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92360" y="2781360"/>
            <a:ext cx="3167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KC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3573360"/>
            <a:ext cx="251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c5b9"/>
                </a:solidFill>
                <a:latin typeface="Footlight MT Light"/>
                <a:ea typeface="华文新魏"/>
              </a:rPr>
              <a:t>MnO</a:t>
            </a:r>
            <a:r>
              <a:rPr b="1" lang="en-US" sz="5400" spc="-1" strike="noStrike" baseline="-25000">
                <a:solidFill>
                  <a:srgbClr val="4bc5b9"/>
                </a:solidFill>
                <a:latin typeface="Footlight MT Light"/>
                <a:ea typeface="华文新魏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59280" y="4437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c5b9"/>
                </a:solidFill>
                <a:latin typeface="Courier New"/>
                <a:ea typeface="华文新魏"/>
              </a:rPr>
              <a:t>O</a:t>
            </a:r>
            <a:r>
              <a:rPr b="1" lang="en-US" sz="5400" spc="-1" strike="noStrike" baseline="-25000">
                <a:solidFill>
                  <a:srgbClr val="4bc5b9"/>
                </a:solidFill>
                <a:latin typeface="Courier New"/>
                <a:ea typeface="华文新魏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88000" y="450864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c5b9"/>
                </a:solidFill>
                <a:latin typeface="Tahoma"/>
                <a:ea typeface="华文新魏"/>
              </a:rPr>
              <a:t>M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92360" y="5084640"/>
            <a:ext cx="648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c5b9"/>
                </a:solidFill>
                <a:latin typeface="Californian FB"/>
                <a:ea typeface="华文新魏"/>
              </a:rPr>
              <a:t>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596360" y="522936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c5b9"/>
                </a:solidFill>
                <a:latin typeface="Californian FB"/>
                <a:ea typeface="华文新魏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00720" y="587700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bc5b9"/>
                </a:solidFill>
                <a:latin typeface="Californian FB"/>
                <a:ea typeface="华文新魏"/>
              </a:rPr>
              <a:t>SO</a:t>
            </a:r>
            <a:r>
              <a:rPr b="1" lang="en-US" sz="5400" spc="-1" strike="noStrike" baseline="-25000">
                <a:solidFill>
                  <a:srgbClr val="4bc5b9"/>
                </a:solidFill>
                <a:latin typeface="Californian FB"/>
                <a:ea typeface="华文新魏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7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468360" y="476280"/>
            <a:ext cx="2590920" cy="19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      S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Mg     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3642480" y="378000"/>
            <a:ext cx="49784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F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KM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Cl   M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1619280" y="2205000"/>
            <a:ext cx="144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8"/>
          <p:cNvSpPr/>
          <p:nvPr/>
        </p:nvSpPr>
        <p:spPr>
          <a:xfrm>
            <a:off x="5796000" y="1773360"/>
            <a:ext cx="144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179280" y="3213000"/>
            <a:ext cx="259236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种元素 组成的纯净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4643280" y="3141720"/>
            <a:ext cx="38894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同种元素 组成 的纯净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1547640" y="4869000"/>
            <a:ext cx="180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826920" y="5734080"/>
            <a:ext cx="187200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单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23"/>
          <p:cNvSpPr/>
          <p:nvPr/>
        </p:nvSpPr>
        <p:spPr>
          <a:xfrm>
            <a:off x="7020000" y="4797360"/>
            <a:ext cx="144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6672960" y="5545080"/>
            <a:ext cx="127800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化合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6"/>
          <p:cNvSpPr/>
          <p:nvPr/>
        </p:nvSpPr>
        <p:spPr>
          <a:xfrm>
            <a:off x="468360" y="47628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7"/>
          <p:cNvSpPr/>
          <p:nvPr/>
        </p:nvSpPr>
        <p:spPr>
          <a:xfrm>
            <a:off x="468360" y="476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28"/>
          <p:cNvSpPr/>
          <p:nvPr/>
        </p:nvSpPr>
        <p:spPr>
          <a:xfrm>
            <a:off x="2556000" y="47628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9"/>
          <p:cNvSpPr/>
          <p:nvPr/>
        </p:nvSpPr>
        <p:spPr>
          <a:xfrm>
            <a:off x="468360" y="227664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30"/>
          <p:cNvSpPr/>
          <p:nvPr/>
        </p:nvSpPr>
        <p:spPr>
          <a:xfrm>
            <a:off x="3564000" y="4762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31"/>
          <p:cNvSpPr/>
          <p:nvPr/>
        </p:nvSpPr>
        <p:spPr>
          <a:xfrm>
            <a:off x="3564000" y="476280"/>
            <a:ext cx="518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32"/>
          <p:cNvSpPr/>
          <p:nvPr/>
        </p:nvSpPr>
        <p:spPr>
          <a:xfrm>
            <a:off x="8748720" y="47628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33"/>
          <p:cNvSpPr/>
          <p:nvPr/>
        </p:nvSpPr>
        <p:spPr>
          <a:xfrm>
            <a:off x="3564000" y="1628640"/>
            <a:ext cx="518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2556000" y="111240"/>
            <a:ext cx="391788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F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5940360" y="2492280"/>
            <a:ext cx="2500560" cy="1081080"/>
            <a:chOff x="5940360" y="2492280"/>
            <a:chExt cx="2500560" cy="1081080"/>
          </a:xfrm>
        </p:grpSpPr>
        <p:sp>
          <p:nvSpPr>
            <p:cNvPr id="551" name="AutoShape 4"/>
            <p:cNvSpPr/>
            <p:nvPr/>
          </p:nvSpPr>
          <p:spPr>
            <a:xfrm>
              <a:off x="5940360" y="2492280"/>
              <a:ext cx="2484360" cy="1081080"/>
            </a:xfrm>
            <a:prstGeom prst="cloudCallout">
              <a:avLst>
                <a:gd name="adj1" fmla="val -54708"/>
                <a:gd name="adj2" fmla="val -102421"/>
              </a:avLst>
            </a:prstGeom>
            <a:solidFill>
              <a:srgbClr val="000000"/>
            </a:solidFill>
            <a:ln w="25560">
              <a:solidFill>
                <a:srgbClr val="e1f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5"/>
            <p:cNvSpPr/>
            <p:nvPr/>
          </p:nvSpPr>
          <p:spPr>
            <a:xfrm>
              <a:off x="6445080" y="2560680"/>
              <a:ext cx="199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Arial"/>
                </a:rPr>
                <a:t>KMnO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Text Box 6"/>
          <p:cNvSpPr/>
          <p:nvPr/>
        </p:nvSpPr>
        <p:spPr>
          <a:xfrm>
            <a:off x="2340000" y="3284640"/>
            <a:ext cx="4392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两种元素组成，其中一种是氧元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>
            <a:off x="4356000" y="479736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3203640" y="5661000"/>
            <a:ext cx="25923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氧化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 rot="11355600">
            <a:off x="1136520" y="2693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48400" y="1277280"/>
            <a:ext cx="2598480" cy="2503800"/>
            <a:chOff x="248400" y="1277280"/>
            <a:chExt cx="2598480" cy="2503800"/>
          </a:xfrm>
        </p:grpSpPr>
        <p:sp>
          <p:nvSpPr>
            <p:cNvPr id="558" name="AutoShape 11"/>
            <p:cNvSpPr/>
            <p:nvPr/>
          </p:nvSpPr>
          <p:spPr>
            <a:xfrm rot="8740800">
              <a:off x="539280" y="1701360"/>
              <a:ext cx="2016000" cy="1655640"/>
            </a:xfrm>
            <a:prstGeom prst="cloudCallout">
              <a:avLst>
                <a:gd name="adj1" fmla="val -96120"/>
                <a:gd name="adj2" fmla="val -45453"/>
              </a:avLst>
            </a:prstGeom>
            <a:solidFill>
              <a:srgbClr val="000000"/>
            </a:solidFill>
            <a:ln w="25560">
              <a:solidFill>
                <a:srgbClr val="e1f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12"/>
            <p:cNvSpPr/>
            <p:nvPr/>
          </p:nvSpPr>
          <p:spPr>
            <a:xfrm>
              <a:off x="863280" y="2349360"/>
              <a:ext cx="1448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Arial"/>
                </a:rPr>
                <a:t>KCl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Text Box 13"/>
          <p:cNvSpPr/>
          <p:nvPr/>
        </p:nvSpPr>
        <p:spPr>
          <a:xfrm>
            <a:off x="6516720" y="4221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是氧化物吗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431640" y="3645000"/>
            <a:ext cx="2340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是氧化物吗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15"/>
          <p:cNvSpPr/>
          <p:nvPr/>
        </p:nvSpPr>
        <p:spPr>
          <a:xfrm>
            <a:off x="4356000" y="1989000"/>
            <a:ext cx="0" cy="108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16"/>
          <p:cNvSpPr/>
          <p:nvPr/>
        </p:nvSpPr>
        <p:spPr>
          <a:xfrm>
            <a:off x="2556000" y="0"/>
            <a:ext cx="0" cy="1700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18"/>
          <p:cNvSpPr/>
          <p:nvPr/>
        </p:nvSpPr>
        <p:spPr>
          <a:xfrm>
            <a:off x="2556000" y="1700280"/>
            <a:ext cx="40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19"/>
          <p:cNvSpPr/>
          <p:nvPr/>
        </p:nvSpPr>
        <p:spPr>
          <a:xfrm>
            <a:off x="2556000" y="0"/>
            <a:ext cx="39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21"/>
          <p:cNvSpPr/>
          <p:nvPr/>
        </p:nvSpPr>
        <p:spPr>
          <a:xfrm>
            <a:off x="6588000" y="0"/>
            <a:ext cx="0" cy="177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22"/>
          <p:cNvSpPr/>
          <p:nvPr/>
        </p:nvSpPr>
        <p:spPr>
          <a:xfrm>
            <a:off x="6516720" y="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"/>
                            </p:stCondLst>
                            <p:childTnLst>
                              <p:par>
                                <p:cTn id="7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5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7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11280" y="1890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00f9"/>
                </a:solidFill>
                <a:latin typeface="Arial"/>
                <a:ea typeface="黑体"/>
              </a:rPr>
              <a:t>二、物质的分类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-487440" y="3716280"/>
            <a:ext cx="1521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物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71640" y="2708280"/>
            <a:ext cx="287280" cy="3241800"/>
          </a:xfrm>
          <a:custGeom>
            <a:avLst/>
            <a:gdLst>
              <a:gd name="textAreaLeft" fmla="*/ 183600 w 287280"/>
              <a:gd name="textAreaRight" fmla="*/ 287640 w 287280"/>
              <a:gd name="textAreaTop" fmla="*/ 84240 h 3241800"/>
              <a:gd name="textAreaBottom" fmla="*/ 3157560 h 324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58920" y="256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纯净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58920" y="544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混合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87640" y="1916280"/>
            <a:ext cx="216000" cy="208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26920" y="42210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00f9"/>
                </a:solidFill>
                <a:latin typeface="Arial"/>
                <a:ea typeface="黑体"/>
              </a:rPr>
              <a:t>（按物质种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32000" y="155736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单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59280" y="3645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化合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71640" y="2637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00f9"/>
                </a:solidFill>
                <a:latin typeface="Arial"/>
                <a:ea typeface="黑体"/>
              </a:rPr>
              <a:t>（按元素种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56000" y="1268280"/>
            <a:ext cx="381240" cy="1295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981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金属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F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M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27640" y="1628640"/>
            <a:ext cx="540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非金属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22050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稀有气体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H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N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03640" y="2997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氧化物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643280" y="3213000"/>
            <a:ext cx="432000" cy="1871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76720" y="486900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酸、碱、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836640"/>
            <a:ext cx="2843280" cy="1224000"/>
          </a:xfrm>
          <a:prstGeom prst="wedgeRoundRectCallout">
            <a:avLst>
              <a:gd name="adj1" fmla="val 81657"/>
              <a:gd name="adj2" fmla="val 24708"/>
              <a:gd name="adj3" fmla="val 16667"/>
            </a:avLst>
          </a:prstGeom>
          <a:noFill/>
          <a:ln w="22320">
            <a:solidFill>
              <a:srgbClr val="d9be02"/>
            </a:solidFill>
            <a:miter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同种元素组成的纯净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59280" y="5589720"/>
            <a:ext cx="5473440" cy="1008000"/>
          </a:xfrm>
          <a:prstGeom prst="wedgeRoundRectCallout">
            <a:avLst>
              <a:gd name="adj1" fmla="val -34282"/>
              <a:gd name="adj2" fmla="val -182912"/>
              <a:gd name="adj3" fmla="val 16667"/>
            </a:avLst>
          </a:prstGeom>
          <a:noFill/>
          <a:ln w="22320">
            <a:solidFill>
              <a:srgbClr val="d9be02"/>
            </a:solidFill>
            <a:miter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不种元素组成的纯净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96000" y="3500280"/>
            <a:ext cx="4248000" cy="1297080"/>
          </a:xfrm>
          <a:prstGeom prst="wedgeRoundRectCallout">
            <a:avLst>
              <a:gd name="adj1" fmla="val 824"/>
              <a:gd name="adj2" fmla="val -70319"/>
              <a:gd name="adj3" fmla="val 16667"/>
            </a:avLst>
          </a:prstGeom>
          <a:noFill/>
          <a:ln w="22320">
            <a:solidFill>
              <a:srgbClr val="d9be02"/>
            </a:solidFill>
            <a:miter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由两种元素组成，其中含氧元素的化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33"/>
          <p:cNvPicPr/>
          <p:nvPr/>
        </p:nvPicPr>
        <p:blipFill>
          <a:blip r:embed="rId1"/>
          <a:stretch/>
        </p:blipFill>
        <p:spPr>
          <a:xfrm>
            <a:off x="392436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5400720" cy="38703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4"/>
          <p:cNvSpPr/>
          <p:nvPr/>
        </p:nvSpPr>
        <p:spPr>
          <a:xfrm>
            <a:off x="6588000" y="1692360"/>
            <a:ext cx="230364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纯净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588000" y="3133800"/>
            <a:ext cx="230364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化合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6588000" y="4581360"/>
            <a:ext cx="230364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氧化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Picture 7" descr="hx17"/>
          <p:cNvPicPr/>
          <p:nvPr/>
        </p:nvPicPr>
        <p:blipFill>
          <a:blip r:embed="rId3"/>
          <a:stretch/>
        </p:blipFill>
        <p:spPr>
          <a:xfrm>
            <a:off x="1042920" y="6165720"/>
            <a:ext cx="2952720" cy="5144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hx17"/>
          <p:cNvPicPr/>
          <p:nvPr/>
        </p:nvPicPr>
        <p:blipFill>
          <a:blip r:embed="rId4"/>
          <a:stretch/>
        </p:blipFill>
        <p:spPr>
          <a:xfrm>
            <a:off x="4716360" y="6165720"/>
            <a:ext cx="2952720" cy="514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hx17"/>
          <p:cNvPicPr/>
          <p:nvPr/>
        </p:nvPicPr>
        <p:blipFill>
          <a:blip r:embed="rId5"/>
          <a:stretch/>
        </p:blipFill>
        <p:spPr>
          <a:xfrm>
            <a:off x="6156360" y="6165720"/>
            <a:ext cx="2952720" cy="514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4"/>
          <p:cNvSpPr/>
          <p:nvPr/>
        </p:nvSpPr>
        <p:spPr>
          <a:xfrm>
            <a:off x="2919960" y="117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试试看，你一定行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684360" y="98100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根据你所认识的物质分类的简单知识，对下列几种常见的物质，试着给它们归类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250920" y="3141720"/>
            <a:ext cx="8388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2720" y="3357720"/>
            <a:ext cx="84582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oudy Old Style"/>
              </a:rPr>
              <a:t>空气     二氧化碳 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(CO</a:t>
            </a: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)   </a:t>
            </a:r>
            <a:r>
              <a:rPr b="1" lang="zh-CN" sz="4000" spc="-1" strike="noStrike">
                <a:solidFill>
                  <a:srgbClr val="000000"/>
                </a:solidFill>
                <a:latin typeface="Goudy Old Style"/>
              </a:rPr>
              <a:t>矿泉水    氧气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(O</a:t>
            </a: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)   </a:t>
            </a:r>
            <a:r>
              <a:rPr b="1" lang="zh-CN" sz="4000" spc="-1" strike="noStrike">
                <a:solidFill>
                  <a:srgbClr val="000000"/>
                </a:solidFill>
                <a:latin typeface="Goudy Old Style"/>
              </a:rPr>
              <a:t>氮气 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)       </a:t>
            </a:r>
            <a:r>
              <a:rPr b="1" lang="zh-CN" sz="4000" spc="-1" strike="noStrike">
                <a:solidFill>
                  <a:srgbClr val="000000"/>
                </a:solidFill>
                <a:latin typeface="Goudy Old Style"/>
              </a:rPr>
              <a:t>蒸馏水（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Goudy Old Style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Goudy Old Style"/>
              </a:rPr>
              <a:t>硫粉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(S)      </a:t>
            </a:r>
            <a:r>
              <a:rPr b="1" lang="zh-CN" sz="4000" spc="-1" strike="noStrike">
                <a:solidFill>
                  <a:srgbClr val="000000"/>
                </a:solidFill>
                <a:latin typeface="Goudy Old Style"/>
              </a:rPr>
              <a:t>氯化钾</a:t>
            </a:r>
            <a:r>
              <a:rPr b="1" lang="en-US" sz="4000" spc="-1" strike="noStrike">
                <a:solidFill>
                  <a:srgbClr val="000000"/>
                </a:solidFill>
                <a:latin typeface="Goudy Old Style"/>
              </a:rPr>
              <a:t>(KC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688680" y="1484280"/>
            <a:ext cx="729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      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1835280" y="1052640"/>
            <a:ext cx="57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混合物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矿泉水      空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492360" y="242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合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35280" y="3933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1692360" y="2781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纯净物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826920" y="1052640"/>
            <a:ext cx="576360" cy="3168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247680 h 3168360"/>
              <a:gd name="textAreaBottom" fmla="*/ 2920680 h 31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8"/>
          <p:cNvSpPr/>
          <p:nvPr/>
        </p:nvSpPr>
        <p:spPr>
          <a:xfrm>
            <a:off x="2987640" y="2637000"/>
            <a:ext cx="504720" cy="237780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7800"/>
              <a:gd name="textAreaBottom" fmla="*/ 2315880 h 23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5003640" y="2133720"/>
            <a:ext cx="273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二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蒸馏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氯化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4932360" y="400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氧气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氮气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硫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11"/>
          <p:cNvSpPr/>
          <p:nvPr/>
        </p:nvSpPr>
        <p:spPr>
          <a:xfrm>
            <a:off x="3203640" y="3789360"/>
            <a:ext cx="504720" cy="237816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8160"/>
              <a:gd name="textAreaBottom" fmla="*/ 2316240 h 237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7020000" y="2133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7524720" y="234936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二氧化碳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蒸馏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87560" y="2060640"/>
            <a:ext cx="60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fornian FB"/>
              </a:rPr>
              <a:t>}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-190440" y="1484280"/>
            <a:ext cx="10922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640" y="134136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139680"/>
            <a:ext cx="15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｛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683240" y="114480"/>
            <a:ext cx="1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800440" y="2565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4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氢气的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物理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2494080"/>
            <a:ext cx="910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氢气是无色、无臭的气体，密度比空气小、难溶于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5"/>
          <p:cNvSpPr/>
          <p:nvPr/>
        </p:nvSpPr>
        <p:spPr>
          <a:xfrm>
            <a:off x="468360" y="1557360"/>
            <a:ext cx="7848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电解水时，当接通直流电源，两极上均有气泡产生，其中正极上产生的气体是（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），负极上产生的气体是（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），两者的体积比为（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）。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1332000" y="3789360"/>
            <a:ext cx="863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0066"/>
                </a:solidFill>
                <a:latin typeface="黑体"/>
                <a:ea typeface="黑体"/>
              </a:rPr>
              <a:t>O</a:t>
            </a:r>
            <a:r>
              <a:rPr b="1" lang="en-US" sz="6200" spc="-1" strike="noStrike" baseline="-25000">
                <a:solidFill>
                  <a:srgbClr val="ff0066"/>
                </a:solidFill>
                <a:latin typeface="黑体"/>
                <a:ea typeface="黑体"/>
              </a:rPr>
              <a:t>2 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2556000" y="4941720"/>
            <a:ext cx="129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</a:t>
            </a:r>
            <a:r>
              <a:rPr b="1" lang="en-US" sz="48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2533680" y="5877000"/>
            <a:ext cx="15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1</a:t>
            </a:r>
            <a:r>
              <a:rPr b="1" lang="he-IL" sz="4000" spc="-1" strike="noStrike">
                <a:solidFill>
                  <a:srgbClr val="ff0066"/>
                </a:solidFill>
                <a:latin typeface="Tahom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:</a:t>
            </a:r>
            <a:r>
              <a:rPr b="1" lang="he-IL" sz="4000" spc="-1" strike="noStrike">
                <a:solidFill>
                  <a:srgbClr val="ff0066"/>
                </a:solidFill>
                <a:latin typeface="Tahoma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828720" y="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4"/>
          <p:cNvSpPr/>
          <p:nvPr/>
        </p:nvSpPr>
        <p:spPr>
          <a:xfrm>
            <a:off x="612720" y="404640"/>
            <a:ext cx="753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2.</a:t>
            </a: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电解水的实验说明（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</a:t>
            </a: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901800" y="1701720"/>
            <a:ext cx="809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水是一种常见的元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水中含有氢气和氧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水是由氢元素和氧元素组成的混合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水是由氢元素和氧元素组成的化合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6806160" y="47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627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氢气的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化学性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1557360"/>
            <a:ext cx="367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可燃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2920" y="2205000"/>
            <a:ext cx="30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点燃纯净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0000" y="2781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发出淡蓝色火焰，烧杯内壁有水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76360" y="3357720"/>
            <a:ext cx="41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+    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32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点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278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现象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3933720"/>
            <a:ext cx="43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点燃不纯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4653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发生爆鸣或爆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5805360"/>
            <a:ext cx="8064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华文行楷"/>
              </a:rPr>
              <a:t>（点燃前一定要验纯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03280" y="465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现象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48360" y="3357720"/>
            <a:ext cx="194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08360" y="364500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5300640"/>
            <a:ext cx="41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+    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06920" y="52275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点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5280" y="5300640"/>
            <a:ext cx="194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55879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3640" y="148428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可以做燃料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411280" y="188640"/>
            <a:ext cx="7228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宋体"/>
              </a:rPr>
              <a:t>氢气的验纯方法</a:t>
            </a:r>
            <a:endParaRPr b="0" lang="en-US" sz="60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55640" y="1197000"/>
            <a:ext cx="7777080" cy="19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管口朝下，用拇指堵住集满氢气的试管口，靠近火焰，移开拇指点火，如听到</a:t>
            </a:r>
            <a:r>
              <a:rPr b="1" lang="zh-CN" sz="4000" spc="-1" strike="noStrike">
                <a:solidFill>
                  <a:srgbClr val="ff5050"/>
                </a:solidFill>
                <a:latin typeface="Verdana"/>
                <a:ea typeface="华文楷体"/>
              </a:rPr>
              <a:t>很小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的声音，则表示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氢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气</a:t>
            </a:r>
            <a:r>
              <a:rPr b="1" lang="zh-CN" sz="4000" spc="-1" strike="noStrike">
                <a:solidFill>
                  <a:srgbClr val="ff5050"/>
                </a:solidFill>
                <a:latin typeface="Verdana"/>
                <a:ea typeface="华文楷体"/>
              </a:rPr>
              <a:t>已纯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，如发出</a:t>
            </a:r>
            <a:r>
              <a:rPr b="1" lang="zh-CN" sz="4000" spc="-1" strike="noStrike">
                <a:solidFill>
                  <a:srgbClr val="ff5050"/>
                </a:solidFill>
                <a:latin typeface="Verdana"/>
                <a:ea typeface="华文楷体"/>
              </a:rPr>
              <a:t>尖锐爆鸣声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表明氢气</a:t>
            </a:r>
            <a:r>
              <a:rPr b="1" lang="zh-CN" sz="4000" spc="-1" strike="noStrike">
                <a:solidFill>
                  <a:srgbClr val="ff5050"/>
                </a:solidFill>
                <a:latin typeface="Verdana"/>
                <a:ea typeface="华文楷体"/>
              </a:rPr>
              <a:t>不纯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华文楷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pic_33454"/>
          <p:cNvPicPr/>
          <p:nvPr/>
        </p:nvPicPr>
        <p:blipFill>
          <a:blip r:embed="rId1"/>
          <a:stretch/>
        </p:blipFill>
        <p:spPr>
          <a:xfrm>
            <a:off x="3962520" y="3733920"/>
            <a:ext cx="3203280" cy="29080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7"/>
          <p:cNvSpPr/>
          <p:nvPr/>
        </p:nvSpPr>
        <p:spPr>
          <a:xfrm>
            <a:off x="7667640" y="602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气体检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103320" y="-22320"/>
            <a:ext cx="9169560" cy="1362240"/>
            <a:chOff x="-103320" y="-22320"/>
            <a:chExt cx="9169560" cy="1362240"/>
          </a:xfrm>
        </p:grpSpPr>
        <p:pic>
          <p:nvPicPr>
            <p:cNvPr id="270" name="Rectangle 2" descr=""/>
            <p:cNvPicPr/>
            <p:nvPr/>
          </p:nvPicPr>
          <p:blipFill>
            <a:blip r:embed="rId1"/>
            <a:stretch/>
          </p:blipFill>
          <p:spPr>
            <a:xfrm>
              <a:off x="-103320" y="-22320"/>
              <a:ext cx="91695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 txBox="1"/>
            <p:nvPr/>
          </p:nvSpPr>
          <p:spPr>
            <a:xfrm>
              <a:off x="-103320" y="-22320"/>
              <a:ext cx="9169560" cy="136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4bc5b9"/>
                </a:solidFill>
                <a:latin typeface="Footlight MT Light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69832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电解水的实验</a:t>
            </a:r>
            <a:endParaRPr b="0" lang="en-US" sz="50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539640" y="3429000"/>
            <a:ext cx="84232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猜想生成的气体可能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哪两种气体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7740720" y="6324480"/>
            <a:ext cx="609480" cy="533520"/>
          </a:xfrm>
          <a:custGeom>
            <a:avLst/>
            <a:gdLst>
              <a:gd name="textAreaLeft" fmla="*/ 33120 w 609480"/>
              <a:gd name="textAreaRight" fmla="*/ 576360 w 6094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323" y="1350"/>
                </a:lnTo>
                <a:lnTo>
                  <a:pt x="1350" y="135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323" y="20250"/>
                </a:lnTo>
                <a:lnTo>
                  <a:pt x="23323" y="135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23" y="2025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73" h="21600">
                <a:moveTo>
                  <a:pt x="5293" y="3756"/>
                </a:moveTo>
                <a:lnTo>
                  <a:pt x="19380" y="10800"/>
                </a:lnTo>
                <a:lnTo>
                  <a:pt x="5293" y="17844"/>
                </a:lnTo>
                <a:close/>
              </a:path>
            </a:pathLst>
          </a:cu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835280" y="1557360"/>
            <a:ext cx="5976720" cy="49626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333360"/>
            <a:ext cx="889308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] </a:t>
            </a:r>
            <a:r>
              <a:rPr b="0" lang="zh-CN" sz="3200" spc="-1" strike="noStrike" u="sng">
                <a:solidFill>
                  <a:srgbClr val="d9be02"/>
                </a:solidFill>
                <a:uFillTx/>
                <a:latin typeface="Arial"/>
                <a:ea typeface="黑体"/>
                <a:hlinkClick r:id="rId1"/>
              </a:rPr>
              <a:t>水的电解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接通电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电极上和电解管内发生的现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00480" y="5989680"/>
            <a:ext cx="4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16320" y="2984400"/>
            <a:ext cx="0" cy="246384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73520" y="2984400"/>
            <a:ext cx="0" cy="246384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16320" y="2684520"/>
            <a:ext cx="457200" cy="299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48080" y="1930320"/>
            <a:ext cx="193680" cy="854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3417840" y="2398320"/>
            <a:ext cx="250560" cy="721080"/>
          </a:xfrm>
          <a:custGeom>
            <a:avLst/>
            <a:gdLst>
              <a:gd name="textAreaLeft" fmla="*/ 55080 w 250560"/>
              <a:gd name="textAreaRight" fmla="*/ 195480 w 250560"/>
              <a:gd name="textAreaTop" fmla="*/ 158400 h 721080"/>
              <a:gd name="textAreaBottom" fmla="*/ 562680 h 7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16320" y="1677960"/>
            <a:ext cx="457200" cy="40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987640" y="2633760"/>
            <a:ext cx="131760" cy="252360"/>
          </a:xfrm>
          <a:prstGeom prst="rect">
            <a:avLst/>
          </a:prstGeom>
          <a:solidFill>
            <a:srgbClr val="000000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19400" y="2684520"/>
            <a:ext cx="63360" cy="149040"/>
          </a:xfrm>
          <a:prstGeom prst="rect">
            <a:avLst/>
          </a:prstGeom>
          <a:solidFill>
            <a:srgbClr val="000000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19600" y="2811600"/>
            <a:ext cx="198360" cy="2581200"/>
          </a:xfrm>
          <a:prstGeom prst="rect">
            <a:avLst/>
          </a:prstGeom>
          <a:solidFill>
            <a:srgbClr val="000000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35840" y="5197320"/>
            <a:ext cx="0" cy="83520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11440" y="5197320"/>
            <a:ext cx="0" cy="83520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5996160"/>
            <a:ext cx="26244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13040" y="5918040"/>
            <a:ext cx="1051200" cy="236520"/>
          </a:xfrm>
          <a:prstGeom prst="rect">
            <a:avLst/>
          </a:prstGeom>
          <a:solidFill>
            <a:srgbClr val="50742f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6350040"/>
            <a:ext cx="399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5989680"/>
            <a:ext cx="4003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76720" y="5989680"/>
            <a:ext cx="319320" cy="28728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95720" y="5918040"/>
            <a:ext cx="158760" cy="144720"/>
          </a:xfrm>
          <a:prstGeom prst="ellipse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96040" y="5918040"/>
            <a:ext cx="156960" cy="144720"/>
          </a:xfrm>
          <a:prstGeom prst="ellipse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75000" y="1951200"/>
            <a:ext cx="1122480" cy="863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1951200"/>
            <a:ext cx="960480" cy="72720"/>
          </a:xfrm>
          <a:custGeom>
            <a:avLst/>
            <a:gdLst>
              <a:gd name="textAreaLeft" fmla="*/ 210960 w 960480"/>
              <a:gd name="textAreaRight" fmla="*/ 749520 w 960480"/>
              <a:gd name="textAreaTop" fmla="*/ 15840 h 72720"/>
              <a:gd name="textAreaBottom" fmla="*/ 568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13320" y="2023920"/>
            <a:ext cx="64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53080" y="2382840"/>
            <a:ext cx="16200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38640" y="3213000"/>
            <a:ext cx="13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38640" y="3465360"/>
            <a:ext cx="19512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38640" y="3716280"/>
            <a:ext cx="13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38640" y="3967200"/>
            <a:ext cx="19512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38640" y="4470480"/>
            <a:ext cx="19512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38640" y="4219560"/>
            <a:ext cx="13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8640" y="4670280"/>
            <a:ext cx="13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05240" y="330840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05240" y="377820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5240" y="430992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5445000"/>
            <a:ext cx="527040" cy="0"/>
          </a:xfrm>
          <a:prstGeom prst="line">
            <a:avLst/>
          </a:prstGeom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724360" y="1628640"/>
            <a:ext cx="918720" cy="3778200"/>
            <a:chOff x="5724360" y="1628640"/>
            <a:chExt cx="918720" cy="3778200"/>
          </a:xfrm>
        </p:grpSpPr>
        <p:sp>
          <p:nvSpPr>
            <p:cNvPr id="312" name=""/>
            <p:cNvSpPr/>
            <p:nvPr/>
          </p:nvSpPr>
          <p:spPr>
            <a:xfrm>
              <a:off x="5859360" y="2935080"/>
              <a:ext cx="3240" cy="247176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14760" y="2935080"/>
              <a:ext cx="0" cy="2463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59360" y="2633400"/>
              <a:ext cx="455400" cy="301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87880" y="1879560"/>
              <a:ext cx="196920" cy="855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59360" y="1628640"/>
              <a:ext cx="455400" cy="40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724360" y="2584440"/>
              <a:ext cx="918720" cy="250920"/>
              <a:chOff x="5724360" y="2584440"/>
              <a:chExt cx="918720" cy="250920"/>
            </a:xfrm>
          </p:grpSpPr>
          <p:sp>
            <p:nvSpPr>
              <p:cNvPr id="318" name=""/>
              <p:cNvSpPr/>
              <p:nvPr/>
            </p:nvSpPr>
            <p:spPr>
              <a:xfrm rot="5400000">
                <a:off x="5963400" y="2346840"/>
                <a:ext cx="249480" cy="727560"/>
              </a:xfrm>
              <a:custGeom>
                <a:avLst/>
                <a:gdLst>
                  <a:gd name="textAreaLeft" fmla="*/ 54720 w 249480"/>
                  <a:gd name="textAreaRight" fmla="*/ 194760 w 249480"/>
                  <a:gd name="textAreaTop" fmla="*/ 159840 h 727560"/>
                  <a:gd name="textAreaBottom" fmla="*/ 567720 h 72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10800000">
                <a:off x="6510600" y="2584440"/>
                <a:ext cx="132480" cy="250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0800000">
                <a:off x="6445080" y="2635560"/>
                <a:ext cx="65520" cy="1501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120720" y="3136680"/>
              <a:ext cx="195480" cy="1257480"/>
              <a:chOff x="6120720" y="3136680"/>
              <a:chExt cx="195480" cy="125748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6186960" y="3136680"/>
                <a:ext cx="129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120720" y="3388320"/>
                <a:ext cx="19548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6186960" y="3638880"/>
                <a:ext cx="129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120720" y="3890520"/>
                <a:ext cx="19548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120720" y="4394160"/>
                <a:ext cx="19548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186960" y="4142520"/>
                <a:ext cx="129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84800" y="4643280"/>
              <a:ext cx="129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4200" y="3219480"/>
              <a:ext cx="45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94200" y="3697200"/>
              <a:ext cx="45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4200" y="4225680"/>
              <a:ext cx="45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83120" y="5373720"/>
              <a:ext cx="480960" cy="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372360" y="5229360"/>
            <a:ext cx="77760" cy="360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56000" y="2133720"/>
            <a:ext cx="936720" cy="2156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0720" y="2060640"/>
            <a:ext cx="64764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84720" y="2205000"/>
            <a:ext cx="216000" cy="144360"/>
          </a:xfrm>
          <a:prstGeom prst="triangle">
            <a:avLst>
              <a:gd name="adj" fmla="val 2867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19640" y="2133720"/>
            <a:ext cx="144360" cy="215640"/>
          </a:xfrm>
          <a:prstGeom prst="triangle">
            <a:avLst>
              <a:gd name="adj" fmla="val 197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987640" y="1628640"/>
            <a:ext cx="3655440" cy="5003640"/>
            <a:chOff x="2987640" y="1628640"/>
            <a:chExt cx="3655440" cy="5003640"/>
          </a:xfrm>
        </p:grpSpPr>
        <p:sp>
          <p:nvSpPr>
            <p:cNvPr id="339" name=""/>
            <p:cNvSpPr/>
            <p:nvPr/>
          </p:nvSpPr>
          <p:spPr>
            <a:xfrm>
              <a:off x="3300480" y="598968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黑体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52800" y="4794120"/>
              <a:ext cx="3543120" cy="9558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16320" y="2984400"/>
              <a:ext cx="0" cy="2463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73520" y="2984400"/>
              <a:ext cx="0" cy="2463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16320" y="2684160"/>
              <a:ext cx="457200" cy="300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48080" y="1930320"/>
              <a:ext cx="193680" cy="8539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3417480" y="2397960"/>
              <a:ext cx="250920" cy="720720"/>
            </a:xfrm>
            <a:custGeom>
              <a:avLst/>
              <a:gdLst>
                <a:gd name="textAreaLeft" fmla="*/ 55080 w 250920"/>
                <a:gd name="textAreaRight" fmla="*/ 195840 w 250920"/>
                <a:gd name="textAreaTop" fmla="*/ 158400 h 720720"/>
                <a:gd name="textAreaBottom" fmla="*/ 56232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16320" y="1677960"/>
              <a:ext cx="457200" cy="40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2987640" y="2633400"/>
              <a:ext cx="131760" cy="2527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19400" y="2684160"/>
              <a:ext cx="63360" cy="1494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19600" y="2811240"/>
              <a:ext cx="198360" cy="25812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35480" y="5197320"/>
              <a:ext cx="0" cy="83520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11440" y="5197320"/>
              <a:ext cx="0" cy="83520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11440" y="5995800"/>
              <a:ext cx="2624040" cy="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13040" y="5918040"/>
              <a:ext cx="1050840" cy="236520"/>
            </a:xfrm>
            <a:prstGeom prst="rect">
              <a:avLst/>
            </a:prstGeom>
            <a:solidFill>
              <a:srgbClr val="50742f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96000" y="635004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76720" y="5989680"/>
              <a:ext cx="3999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76720" y="5989680"/>
              <a:ext cx="319320" cy="28728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95720" y="5918040"/>
              <a:ext cx="158760" cy="144360"/>
            </a:xfrm>
            <a:prstGeom prst="ellipse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96040" y="5918040"/>
              <a:ext cx="156960" cy="144360"/>
            </a:xfrm>
            <a:prstGeom prst="ellipse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75000" y="1950840"/>
              <a:ext cx="1122480" cy="863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56000" y="1950840"/>
              <a:ext cx="960480" cy="73080"/>
            </a:xfrm>
            <a:custGeom>
              <a:avLst/>
              <a:gdLst>
                <a:gd name="textAreaLeft" fmla="*/ 210960 w 960480"/>
                <a:gd name="textAreaRight" fmla="*/ 749520 w 960480"/>
                <a:gd name="textAreaTop" fmla="*/ 15840 h 73080"/>
                <a:gd name="textAreaBottom" fmla="*/ 572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13320" y="2023920"/>
              <a:ext cx="641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53080" y="2382840"/>
              <a:ext cx="161640" cy="57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38640" y="3213000"/>
              <a:ext cx="13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38640" y="3465360"/>
              <a:ext cx="1951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38640" y="3716280"/>
              <a:ext cx="13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38640" y="3967200"/>
              <a:ext cx="1951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38640" y="4470120"/>
              <a:ext cx="19512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38640" y="4219560"/>
              <a:ext cx="13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38640" y="4670280"/>
              <a:ext cx="131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05240" y="330804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5240" y="377820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05240" y="430992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76720" y="5445000"/>
              <a:ext cx="527040" cy="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724360" y="1628640"/>
              <a:ext cx="918720" cy="3778200"/>
              <a:chOff x="5724360" y="1628640"/>
              <a:chExt cx="918720" cy="3778200"/>
            </a:xfrm>
          </p:grpSpPr>
          <p:sp>
            <p:nvSpPr>
              <p:cNvPr id="375" name=""/>
              <p:cNvSpPr/>
              <p:nvPr/>
            </p:nvSpPr>
            <p:spPr>
              <a:xfrm>
                <a:off x="5859360" y="2935080"/>
                <a:ext cx="3240" cy="247176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14760" y="2935080"/>
                <a:ext cx="0" cy="246384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59360" y="2633400"/>
                <a:ext cx="455400" cy="301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7880" y="1879560"/>
                <a:ext cx="196920" cy="855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59360" y="1628640"/>
                <a:ext cx="455400" cy="401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5724360" y="2584440"/>
                <a:ext cx="918720" cy="250920"/>
                <a:chOff x="5724360" y="2584440"/>
                <a:chExt cx="918720" cy="250920"/>
              </a:xfrm>
            </p:grpSpPr>
            <p:sp>
              <p:nvSpPr>
                <p:cNvPr id="381" name=""/>
                <p:cNvSpPr/>
                <p:nvPr/>
              </p:nvSpPr>
              <p:spPr>
                <a:xfrm rot="5400000">
                  <a:off x="5963400" y="2346840"/>
                  <a:ext cx="249480" cy="727560"/>
                </a:xfrm>
                <a:custGeom>
                  <a:avLst/>
                  <a:gdLst>
                    <a:gd name="textAreaLeft" fmla="*/ 54720 w 249480"/>
                    <a:gd name="textAreaRight" fmla="*/ 194760 w 249480"/>
                    <a:gd name="textAreaTop" fmla="*/ 159840 h 727560"/>
                    <a:gd name="textAreaBottom" fmla="*/ 567720 h 72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rot="10800000">
                  <a:off x="6510600" y="2584440"/>
                  <a:ext cx="132480" cy="2505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0800000">
                  <a:off x="6445080" y="2635560"/>
                  <a:ext cx="65520" cy="15012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120720" y="3136680"/>
                <a:ext cx="195480" cy="1257480"/>
                <a:chOff x="6120720" y="3136680"/>
                <a:chExt cx="195480" cy="1257480"/>
              </a:xfrm>
            </p:grpSpPr>
            <p:sp>
              <p:nvSpPr>
                <p:cNvPr id="385" name=""/>
                <p:cNvSpPr/>
                <p:nvPr/>
              </p:nvSpPr>
              <p:spPr>
                <a:xfrm flipH="1">
                  <a:off x="6186960" y="3136680"/>
                  <a:ext cx="1292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6120720" y="3388320"/>
                  <a:ext cx="195480" cy="0"/>
                </a:xfrm>
                <a:prstGeom prst="line">
                  <a:avLst/>
                </a:prstGeom>
                <a:ln w="381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6186960" y="3638880"/>
                  <a:ext cx="1292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6120720" y="3890520"/>
                  <a:ext cx="195480" cy="0"/>
                </a:xfrm>
                <a:prstGeom prst="line">
                  <a:avLst/>
                </a:prstGeom>
                <a:ln w="381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6120720" y="4394160"/>
                  <a:ext cx="195480" cy="0"/>
                </a:xfrm>
                <a:prstGeom prst="line">
                  <a:avLst/>
                </a:prstGeom>
                <a:ln w="381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6186960" y="4142520"/>
                  <a:ext cx="1292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6184800" y="4643280"/>
                <a:ext cx="129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94200" y="3219480"/>
                <a:ext cx="455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94200" y="3697200"/>
                <a:ext cx="455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94200" y="4225680"/>
                <a:ext cx="455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83120" y="5373720"/>
                <a:ext cx="480960" cy="0"/>
              </a:xfrm>
              <a:prstGeom prst="line">
                <a:avLst/>
              </a:prstGeom>
              <a:ln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6372360" y="5229000"/>
              <a:ext cx="77760" cy="360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58920" y="5373720"/>
              <a:ext cx="3529080" cy="3603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48000" y="3429000"/>
              <a:ext cx="431640" cy="2016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67280" y="3933720"/>
              <a:ext cx="433440" cy="1440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16360" y="2349360"/>
              <a:ext cx="216000" cy="30970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8000" y="2997000"/>
              <a:ext cx="4316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67280" y="2997000"/>
              <a:ext cx="433440" cy="116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84720" y="2060280"/>
              <a:ext cx="1079280" cy="720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56000" y="2133360"/>
              <a:ext cx="936720" cy="21600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00360" y="2060280"/>
              <a:ext cx="64800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84720" y="2205000"/>
              <a:ext cx="215640" cy="144360"/>
            </a:xfrm>
            <a:prstGeom prst="triangle">
              <a:avLst>
                <a:gd name="adj" fmla="val 2867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19640" y="2133360"/>
              <a:ext cx="144360" cy="216000"/>
            </a:xfrm>
            <a:prstGeom prst="triangle">
              <a:avLst>
                <a:gd name="adj" fmla="val 197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979640" y="2781360"/>
            <a:ext cx="1368360" cy="947160"/>
            <a:chOff x="1979640" y="2781360"/>
            <a:chExt cx="1368360" cy="947160"/>
          </a:xfrm>
        </p:grpSpPr>
        <p:sp>
          <p:nvSpPr>
            <p:cNvPr id="409" name=""/>
            <p:cNvSpPr/>
            <p:nvPr/>
          </p:nvSpPr>
          <p:spPr>
            <a:xfrm flipH="1">
              <a:off x="2556000" y="328464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79640" y="2781360"/>
              <a:ext cx="50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氧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300720" y="2852640"/>
            <a:ext cx="1368360" cy="947160"/>
            <a:chOff x="6300720" y="2852640"/>
            <a:chExt cx="1368360" cy="947160"/>
          </a:xfrm>
        </p:grpSpPr>
        <p:sp>
          <p:nvSpPr>
            <p:cNvPr id="412" name=""/>
            <p:cNvSpPr/>
            <p:nvPr/>
          </p:nvSpPr>
          <p:spPr>
            <a:xfrm>
              <a:off x="6300720" y="328428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92720" y="2852640"/>
              <a:ext cx="57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氢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2800" y="4794120"/>
            <a:ext cx="3543120" cy="955800"/>
          </a:xfrm>
          <a:prstGeom prst="rect">
            <a:avLst/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0" y="3240"/>
          <a:ext cx="9144000" cy="4038480"/>
        </p:xfrm>
        <a:graphic>
          <a:graphicData uri="http://schemas.openxmlformats.org/drawingml/2006/table">
            <a:tbl>
              <a:tblPr/>
              <a:tblGrid>
                <a:gridCol w="2286000"/>
                <a:gridCol w="2284560"/>
                <a:gridCol w="2286000"/>
                <a:gridCol w="2287440"/>
              </a:tblGrid>
              <a:tr h="13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两电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正极端的玻璃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负极端的玻璃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3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现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比较两玻璃管中现象差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2484360" y="1677960"/>
            <a:ext cx="16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无色气泡生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86880" y="184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气体较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46880" y="184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气体较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4560" y="2995560"/>
            <a:ext cx="27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负极体积比约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34920" y="47520"/>
          <a:ext cx="9074160" cy="3954600"/>
        </p:xfrm>
        <a:graphic>
          <a:graphicData uri="http://schemas.openxmlformats.org/drawingml/2006/table">
            <a:tbl>
              <a:tblPr/>
              <a:tblGrid>
                <a:gridCol w="3024360"/>
                <a:gridCol w="3024000"/>
                <a:gridCol w="3025800"/>
              </a:tblGrid>
              <a:tr h="131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正极端玻璃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负极端玻璃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现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解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21" name="Text Box 58"/>
          <p:cNvSpPr/>
          <p:nvPr/>
        </p:nvSpPr>
        <p:spPr>
          <a:xfrm>
            <a:off x="3203640" y="14860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木条燃得更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61"/>
          <p:cNvSpPr/>
          <p:nvPr/>
        </p:nvSpPr>
        <p:spPr>
          <a:xfrm>
            <a:off x="3203640" y="293544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此气体为氧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63"/>
          <p:cNvSpPr/>
          <p:nvPr/>
        </p:nvSpPr>
        <p:spPr>
          <a:xfrm>
            <a:off x="6084720" y="13809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气体燃烧，火焰呈淡蓝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5"/>
          <p:cNvSpPr/>
          <p:nvPr/>
        </p:nvSpPr>
        <p:spPr>
          <a:xfrm>
            <a:off x="6084720" y="29988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此气体为氢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152280" y="228600"/>
            <a:ext cx="1067040" cy="1600200"/>
            <a:chOff x="152280" y="228600"/>
            <a:chExt cx="1067040" cy="1600200"/>
          </a:xfrm>
        </p:grpSpPr>
        <p:grpSp>
          <p:nvGrpSpPr>
            <p:cNvPr id="426" name=""/>
            <p:cNvGrpSpPr/>
            <p:nvPr/>
          </p:nvGrpSpPr>
          <p:grpSpPr>
            <a:xfrm>
              <a:off x="152280" y="541440"/>
              <a:ext cx="846720" cy="812160"/>
              <a:chOff x="152280" y="541440"/>
              <a:chExt cx="846720" cy="812160"/>
            </a:xfrm>
          </p:grpSpPr>
          <p:pic>
            <p:nvPicPr>
              <p:cNvPr id="427" name="Oval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541440"/>
                <a:ext cx="846720" cy="81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284040" y="668880"/>
                <a:ext cx="57996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748440" y="228600"/>
              <a:ext cx="470880" cy="493200"/>
              <a:chOff x="748440" y="228600"/>
              <a:chExt cx="470880" cy="493200"/>
            </a:xfrm>
          </p:grpSpPr>
          <p:pic>
            <p:nvPicPr>
              <p:cNvPr id="430" name="Oval 8" descr=""/>
              <p:cNvPicPr/>
              <p:nvPr/>
            </p:nvPicPr>
            <p:blipFill>
              <a:blip r:embed="rId2"/>
              <a:stretch/>
            </p:blipFill>
            <p:spPr>
              <a:xfrm>
                <a:off x="748440" y="228600"/>
                <a:ext cx="470880" cy="49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825840" y="306720"/>
                <a:ext cx="3160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27760" y="1329480"/>
              <a:ext cx="470880" cy="499320"/>
              <a:chOff x="527760" y="1329480"/>
              <a:chExt cx="470880" cy="499320"/>
            </a:xfrm>
          </p:grpSpPr>
          <p:pic>
            <p:nvPicPr>
              <p:cNvPr id="433" name="Oval 9" descr=""/>
              <p:cNvPicPr/>
              <p:nvPr/>
            </p:nvPicPr>
            <p:blipFill>
              <a:blip r:embed="rId3"/>
              <a:stretch/>
            </p:blipFill>
            <p:spPr>
              <a:xfrm>
                <a:off x="527760" y="1329480"/>
                <a:ext cx="470880" cy="49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601920" y="1412280"/>
                <a:ext cx="3160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3419640" y="444600"/>
            <a:ext cx="482400" cy="482400"/>
            <a:chOff x="3419640" y="444600"/>
            <a:chExt cx="482400" cy="482400"/>
          </a:xfrm>
        </p:grpSpPr>
        <p:pic>
          <p:nvPicPr>
            <p:cNvPr id="436" name="Oval 10" descr=""/>
            <p:cNvPicPr/>
            <p:nvPr/>
          </p:nvPicPr>
          <p:blipFill>
            <a:blip r:embed="rId4"/>
            <a:stretch/>
          </p:blipFill>
          <p:spPr>
            <a:xfrm>
              <a:off x="3419640" y="444600"/>
              <a:ext cx="48240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3495600" y="523440"/>
              <a:ext cx="3232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419640" y="1206360"/>
            <a:ext cx="482400" cy="482760"/>
            <a:chOff x="3419640" y="1206360"/>
            <a:chExt cx="482400" cy="482760"/>
          </a:xfrm>
        </p:grpSpPr>
        <p:pic>
          <p:nvPicPr>
            <p:cNvPr id="439" name="Oval 11" descr=""/>
            <p:cNvPicPr/>
            <p:nvPr/>
          </p:nvPicPr>
          <p:blipFill>
            <a:blip r:embed="rId5"/>
            <a:stretch/>
          </p:blipFill>
          <p:spPr>
            <a:xfrm>
              <a:off x="3419640" y="1206360"/>
              <a:ext cx="4824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495600" y="1285560"/>
              <a:ext cx="32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559400" y="828720"/>
            <a:ext cx="866520" cy="860400"/>
            <a:chOff x="4559400" y="828720"/>
            <a:chExt cx="866520" cy="860400"/>
          </a:xfrm>
        </p:grpSpPr>
        <p:pic>
          <p:nvPicPr>
            <p:cNvPr id="442" name="Oval 12" descr=""/>
            <p:cNvPicPr/>
            <p:nvPr/>
          </p:nvPicPr>
          <p:blipFill>
            <a:blip r:embed="rId6"/>
            <a:stretch/>
          </p:blipFill>
          <p:spPr>
            <a:xfrm>
              <a:off x="4559400" y="828720"/>
              <a:ext cx="8665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694040" y="960480"/>
              <a:ext cx="5932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3886200" y="129528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1523880" y="11430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分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33"/>
          <p:cNvSpPr/>
          <p:nvPr/>
        </p:nvSpPr>
        <p:spPr>
          <a:xfrm flipV="1">
            <a:off x="5562720" y="1828800"/>
            <a:ext cx="1904760" cy="46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5638680" y="1143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重新组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315200" y="533520"/>
            <a:ext cx="1560600" cy="761760"/>
            <a:chOff x="7315200" y="533520"/>
            <a:chExt cx="1560600" cy="761760"/>
          </a:xfrm>
        </p:grpSpPr>
        <p:grpSp>
          <p:nvGrpSpPr>
            <p:cNvPr id="449" name=""/>
            <p:cNvGrpSpPr/>
            <p:nvPr/>
          </p:nvGrpSpPr>
          <p:grpSpPr>
            <a:xfrm>
              <a:off x="7315200" y="533520"/>
              <a:ext cx="810360" cy="761760"/>
              <a:chOff x="7315200" y="533520"/>
              <a:chExt cx="810360" cy="761760"/>
            </a:xfrm>
          </p:grpSpPr>
          <p:pic>
            <p:nvPicPr>
              <p:cNvPr id="450" name="Oval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15200" y="533520"/>
                <a:ext cx="8103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7442280" y="650520"/>
                <a:ext cx="555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8065440" y="533520"/>
              <a:ext cx="810360" cy="761760"/>
              <a:chOff x="8065440" y="533520"/>
              <a:chExt cx="810360" cy="761760"/>
            </a:xfrm>
          </p:grpSpPr>
          <p:pic>
            <p:nvPicPr>
              <p:cNvPr id="453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8065440" y="533520"/>
                <a:ext cx="8103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>
                <a:off x="8192520" y="650520"/>
                <a:ext cx="55584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37"/>
          <p:cNvSpPr/>
          <p:nvPr/>
        </p:nvSpPr>
        <p:spPr>
          <a:xfrm>
            <a:off x="7315200" y="1600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氧分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7620120" y="2514600"/>
            <a:ext cx="838080" cy="457200"/>
            <a:chOff x="7620120" y="2514600"/>
            <a:chExt cx="838080" cy="457200"/>
          </a:xfrm>
        </p:grpSpPr>
        <p:grpSp>
          <p:nvGrpSpPr>
            <p:cNvPr id="457" name=""/>
            <p:cNvGrpSpPr/>
            <p:nvPr/>
          </p:nvGrpSpPr>
          <p:grpSpPr>
            <a:xfrm>
              <a:off x="7620120" y="2514600"/>
              <a:ext cx="466200" cy="457200"/>
              <a:chOff x="7620120" y="2514600"/>
              <a:chExt cx="466200" cy="457200"/>
            </a:xfrm>
          </p:grpSpPr>
          <p:pic>
            <p:nvPicPr>
              <p:cNvPr id="458" name="Oval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7620120" y="2514600"/>
                <a:ext cx="466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7696440" y="2586600"/>
                <a:ext cx="31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992000" y="2514600"/>
              <a:ext cx="466200" cy="457200"/>
              <a:chOff x="7992000" y="2514600"/>
              <a:chExt cx="466200" cy="457200"/>
            </a:xfrm>
          </p:grpSpPr>
          <p:pic>
            <p:nvPicPr>
              <p:cNvPr id="461" name="Oval 44" descr=""/>
              <p:cNvPicPr/>
              <p:nvPr/>
            </p:nvPicPr>
            <p:blipFill>
              <a:blip r:embed="rId10"/>
              <a:stretch/>
            </p:blipFill>
            <p:spPr>
              <a:xfrm>
                <a:off x="7992000" y="2514600"/>
                <a:ext cx="466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8065440" y="2586600"/>
                <a:ext cx="31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Text Box 45"/>
          <p:cNvSpPr/>
          <p:nvPr/>
        </p:nvSpPr>
        <p:spPr>
          <a:xfrm>
            <a:off x="7162920" y="35211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氢分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6320" y="1981080"/>
            <a:ext cx="1066680" cy="1524240"/>
            <a:chOff x="76320" y="1981080"/>
            <a:chExt cx="1066680" cy="1524240"/>
          </a:xfrm>
        </p:grpSpPr>
        <p:grpSp>
          <p:nvGrpSpPr>
            <p:cNvPr id="465" name=""/>
            <p:cNvGrpSpPr/>
            <p:nvPr/>
          </p:nvGrpSpPr>
          <p:grpSpPr>
            <a:xfrm>
              <a:off x="76320" y="2280960"/>
              <a:ext cx="840240" cy="774000"/>
              <a:chOff x="76320" y="2280960"/>
              <a:chExt cx="840240" cy="774000"/>
            </a:xfrm>
          </p:grpSpPr>
          <p:pic>
            <p:nvPicPr>
              <p:cNvPr id="466" name="Oval 5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6320" y="2280960"/>
                <a:ext cx="84024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205200" y="2402640"/>
                <a:ext cx="5796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672120" y="1981080"/>
              <a:ext cx="470880" cy="474120"/>
              <a:chOff x="672120" y="1981080"/>
              <a:chExt cx="470880" cy="474120"/>
            </a:xfrm>
          </p:grpSpPr>
          <p:pic>
            <p:nvPicPr>
              <p:cNvPr id="469" name="Oval 5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2120" y="1981080"/>
                <a:ext cx="470880" cy="47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746280" y="2058840"/>
                <a:ext cx="31608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445680" y="3031200"/>
              <a:ext cx="470880" cy="474120"/>
              <a:chOff x="445680" y="3031200"/>
              <a:chExt cx="470880" cy="474120"/>
            </a:xfrm>
          </p:grpSpPr>
          <p:pic>
            <p:nvPicPr>
              <p:cNvPr id="472" name="Oval 53" descr=""/>
              <p:cNvPicPr/>
              <p:nvPr/>
            </p:nvPicPr>
            <p:blipFill>
              <a:blip r:embed="rId13"/>
              <a:stretch/>
            </p:blipFill>
            <p:spPr>
              <a:xfrm>
                <a:off x="445680" y="3031200"/>
                <a:ext cx="470880" cy="47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523080" y="3108960"/>
                <a:ext cx="31608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3419640" y="2048040"/>
            <a:ext cx="482400" cy="482400"/>
            <a:chOff x="3419640" y="2048040"/>
            <a:chExt cx="482400" cy="482400"/>
          </a:xfrm>
        </p:grpSpPr>
        <p:pic>
          <p:nvPicPr>
            <p:cNvPr id="475" name="Oval 54" descr=""/>
            <p:cNvPicPr/>
            <p:nvPr/>
          </p:nvPicPr>
          <p:blipFill>
            <a:blip r:embed="rId14"/>
            <a:stretch/>
          </p:blipFill>
          <p:spPr>
            <a:xfrm>
              <a:off x="3419640" y="2048040"/>
              <a:ext cx="48240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3495600" y="2124000"/>
              <a:ext cx="3232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419640" y="2809800"/>
            <a:ext cx="482400" cy="482760"/>
            <a:chOff x="3419640" y="2809800"/>
            <a:chExt cx="482400" cy="482760"/>
          </a:xfrm>
        </p:grpSpPr>
        <p:pic>
          <p:nvPicPr>
            <p:cNvPr id="478" name="Oval 55" descr=""/>
            <p:cNvPicPr/>
            <p:nvPr/>
          </p:nvPicPr>
          <p:blipFill>
            <a:blip r:embed="rId15"/>
            <a:stretch/>
          </p:blipFill>
          <p:spPr>
            <a:xfrm>
              <a:off x="3419640" y="2809800"/>
              <a:ext cx="4824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3495600" y="2886120"/>
              <a:ext cx="3232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59400" y="2048040"/>
            <a:ext cx="866520" cy="860400"/>
            <a:chOff x="4559400" y="2048040"/>
            <a:chExt cx="866520" cy="860400"/>
          </a:xfrm>
        </p:grpSpPr>
        <p:pic>
          <p:nvPicPr>
            <p:cNvPr id="481" name="Oval 56" descr=""/>
            <p:cNvPicPr/>
            <p:nvPr/>
          </p:nvPicPr>
          <p:blipFill>
            <a:blip r:embed="rId16"/>
            <a:stretch/>
          </p:blipFill>
          <p:spPr>
            <a:xfrm>
              <a:off x="4559400" y="2048040"/>
              <a:ext cx="8665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4694040" y="2179800"/>
              <a:ext cx="5932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Text Box 59"/>
          <p:cNvSpPr/>
          <p:nvPr/>
        </p:nvSpPr>
        <p:spPr>
          <a:xfrm>
            <a:off x="4419720" y="359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氧原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60"/>
          <p:cNvSpPr/>
          <p:nvPr/>
        </p:nvSpPr>
        <p:spPr>
          <a:xfrm>
            <a:off x="3048120" y="3576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氢原子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1066680" y="19051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620120" y="3048120"/>
            <a:ext cx="838080" cy="457200"/>
            <a:chOff x="7620120" y="3048120"/>
            <a:chExt cx="838080" cy="457200"/>
          </a:xfrm>
        </p:grpSpPr>
        <p:grpSp>
          <p:nvGrpSpPr>
            <p:cNvPr id="487" name=""/>
            <p:cNvGrpSpPr/>
            <p:nvPr/>
          </p:nvGrpSpPr>
          <p:grpSpPr>
            <a:xfrm>
              <a:off x="7620120" y="3048120"/>
              <a:ext cx="466200" cy="457200"/>
              <a:chOff x="7620120" y="3048120"/>
              <a:chExt cx="466200" cy="457200"/>
            </a:xfrm>
          </p:grpSpPr>
          <p:pic>
            <p:nvPicPr>
              <p:cNvPr id="488" name="Oval 43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20120" y="3048120"/>
                <a:ext cx="466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96440" y="3120120"/>
                <a:ext cx="31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7992000" y="3048120"/>
              <a:ext cx="466200" cy="457200"/>
              <a:chOff x="7992000" y="3048120"/>
              <a:chExt cx="466200" cy="457200"/>
            </a:xfrm>
          </p:grpSpPr>
          <p:pic>
            <p:nvPicPr>
              <p:cNvPr id="491" name="Oval 44" descr=""/>
              <p:cNvPicPr/>
              <p:nvPr/>
            </p:nvPicPr>
            <p:blipFill>
              <a:blip r:embed="rId18"/>
              <a:stretch/>
            </p:blipFill>
            <p:spPr>
              <a:xfrm>
                <a:off x="7992000" y="3048120"/>
                <a:ext cx="466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8065440" y="3120120"/>
                <a:ext cx="31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Text Box 45"/>
          <p:cNvSpPr/>
          <p:nvPr/>
        </p:nvSpPr>
        <p:spPr>
          <a:xfrm>
            <a:off x="228600" y="35812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水分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33720" y="50292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水的电解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5:48:50Z</dcterms:created>
  <dc:creator>152</dc:creator>
  <dc:description/>
  <dc:language>en-US</dc:language>
  <cp:lastModifiedBy>User</cp:lastModifiedBy>
  <cp:lastPrinted>1899-12-30T00:00:00Z</cp:lastPrinted>
  <dcterms:modified xsi:type="dcterms:W3CDTF">2013-10-15T00:55:11Z</dcterms:modified>
  <cp:revision>1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NXTAG2">
    <vt:lpwstr>0008004816000000000001024120</vt:lpwstr>
  </property>
</Properties>
</file>